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7.jpeg" ContentType="image/jpeg"/>
  <Override PartName="/ppt/media/image4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5A0-DFBD-4D58-9DF8-BCCA58A4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FA8-9F35-4811-9F0B-035F0507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B13-C5F2-4DF6-AD3E-56AA08AE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D2B-7D76-4B3B-8056-46A907B4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EEDB-80A8-481E-B820-4C06FAA8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267A-E804-4CFC-8A3C-ECC5E5F0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90F2-925E-444B-80C4-B8EACFEB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C1FF-753B-4851-A787-39FC97B1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5CCA-6385-4F19-AD82-3A98FBC1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7BAD-5A75-4778-B021-4E89E216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E60F-EB26-4530-A19E-47A2642D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AC7-C45C-4CA9-B1EB-5240098F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DCCA-C35D-4C9B-AFF6-BE8EA894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5937-740E-47BD-8384-5A0D9E67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38E2-2CB5-4A1E-BAF4-86EFFEDE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348E-4BD9-4FF3-AB50-D257DFD6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0C2C-786E-42A1-BE44-A0E3E93C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A9C-B52A-4BE0-A590-4281E60B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465-60D7-4D68-861B-4FE26D65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B22-A8A0-4F91-8DF7-F5EEBF2D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F3A-6003-45D4-AD63-FADDFE6B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1764-7E14-4EAE-AF0F-1322A39D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4CF-39F7-402E-968D-1796D481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BC28-6F9B-4761-848F-BE26DAE4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E55D-4C41-4FA3-B256-E310F84607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C037-9047-4560-B64F-008919A17D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10199"/>
                </a:solidFill>
                <a:latin typeface="Arial"/>
              </a:rPr>
              <a:t>The Heimlich Maneuve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By: James Brow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07400" y="4759200"/>
            <a:ext cx="1952280" cy="1774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Important Notice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his information is not intended to be a substitute for professional medical advice.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 licensed physician should be consulted for diagnosis and treatment of all medical condi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146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264440" y="4991040"/>
            <a:ext cx="1879560" cy="1866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5022720"/>
            <a:ext cx="1841400" cy="183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0968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Introduction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here’s never a warning before a person gets an object caught in their throat and starts choking. 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Fortunately, they’re effective techniques to deal with this emerge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Heimlich Maneuver on Infant"/>
          <p:cNvPicPr/>
          <p:nvPr/>
        </p:nvPicPr>
        <p:blipFill>
          <a:blip r:embed="rId1"/>
          <a:stretch/>
        </p:blipFill>
        <p:spPr>
          <a:xfrm>
            <a:off x="5334120" y="38098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Cho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Choking is the body’s way of trying to remove a foreign object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5516640"/>
            <a:ext cx="1838160" cy="1341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469280" y="263520"/>
            <a:ext cx="146376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Causes of Chok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ating (especially eating and laughing at the same time, eating too fast, and failing to chew food well enough.) 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lcohol and drug consumption (even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mall amount affects awarenes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rauma to the head and face (bleeding can cause choking) 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mall objects swallowed by children (beads, toys) 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145360" y="0"/>
            <a:ext cx="998640" cy="1371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3840" y="169920"/>
            <a:ext cx="536400" cy="1895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2920" y="5257800"/>
            <a:ext cx="2006640" cy="1590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686720" y="5029200"/>
            <a:ext cx="14572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Lack of Oxyge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thout oxygen the brain can begin to die within 4 to 6 minutes. </a:t>
            </a:r>
            <a:br>
              <a:rPr sz="2800"/>
            </a:b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y learning the Heimlich Maneuver-a simple life-saving technique-you may literally save the life of a choking victi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24560" y="5859360"/>
            <a:ext cx="1819440" cy="99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037120"/>
            <a:ext cx="1460520" cy="1820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Heimlich Maneuv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he Heimlich Maneuver is the most effective way to remove something stuck in an adult’s or older child’s throat. (Note: another technique is used for an infant, small child, or when someone becomes unconscious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It lifts the diaphragm and forces enough air from the lungs to remove the obstruct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1752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367760" y="522756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58760" y="5210280"/>
            <a:ext cx="1743120" cy="1452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694640" y="0"/>
            <a:ext cx="144936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When Do I Use The Heimlich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he person is grabbing the throat with the hand (the universal sign for choking)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You notice they are gagging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You hear a weak ineffective cough, noisy breathing, or high-pitched s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he person is starting to look bl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Choking"/>
          <p:cNvPicPr/>
          <p:nvPr/>
        </p:nvPicPr>
        <p:blipFill>
          <a:blip r:embed="rId1"/>
          <a:stretch/>
        </p:blipFill>
        <p:spPr>
          <a:xfrm>
            <a:off x="6172200" y="4479840"/>
            <a:ext cx="2971800" cy="2378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5121360"/>
            <a:ext cx="1905120" cy="1736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315200" y="2057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How To Do The Heimlich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tand behind the choking person and wrap your arm around his or her waist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lace thumb side of the fist against middle of person’s abdomen just above the navel and well below the ribs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ess your fist into the person’s abdomen with quick, upward thrusts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peat abdominal thrusts until the object is coughed up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92920" y="5581800"/>
            <a:ext cx="1351080" cy="127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99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Arial"/>
              </a:rPr>
              <a:t>Always Remember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Following the expulsion of the object, keep the victim still and get medical help</a:t>
            </a: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mplications can arise from the incident or from the measures that were tak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89280" cy="132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94360" y="4941720"/>
            <a:ext cx="1974960" cy="1698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47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7:05Z</dcterms:created>
  <dc:creator>770385</dc:creator>
  <dc:description/>
  <dc:language>en-US</dc:language>
  <cp:lastModifiedBy>770385</cp:lastModifiedBy>
  <dcterms:modified xsi:type="dcterms:W3CDTF">2008-10-31T15:35:41Z</dcterms:modified>
  <cp:revision>5</cp:revision>
  <dc:subject/>
  <dc:title>The Heimlich Maneuver</dc:title>
</cp:coreProperties>
</file>